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  <p:custShowLst>
    <p:custShow name="Brief UbD 4/00" id="0">
      <p:sldLst>
        <p:sld r:id="rId3"/>
        <p:sld r:id="rId4"/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79869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7560" y="3870720"/>
            <a:ext cx="79869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040" y="16765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7560" y="38707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040" y="38707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257148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7920" y="1676520"/>
            <a:ext cx="257148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280" y="1676520"/>
            <a:ext cx="257148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7560" y="3870720"/>
            <a:ext cx="257148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7920" y="3870720"/>
            <a:ext cx="257148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280" y="3870720"/>
            <a:ext cx="257148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47560" y="16765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38973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040" y="1676520"/>
            <a:ext cx="38973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18880"/>
            <a:ext cx="77580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040" y="1676520"/>
            <a:ext cx="38973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7560" y="38707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38973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040" y="16765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040" y="38707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040" y="1676520"/>
            <a:ext cx="38973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7560" y="3870720"/>
            <a:ext cx="7986960" cy="20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040" cy="6845040"/>
            <a:chOff x="0" y="0"/>
            <a:chExt cx="9131040" cy="68450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1040" cy="6845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610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55760" y="1317600"/>
            <a:ext cx="8669160" cy="85680"/>
          </a:xfrm>
          <a:prstGeom prst="rect">
            <a:avLst/>
          </a:prstGeom>
          <a:gradFill rotWithShape="0">
            <a:gsLst>
              <a:gs pos="0">
                <a:srgbClr val="2e4fac"/>
              </a:gs>
              <a:gs pos="100000">
                <a:srgbClr val="4474f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47560" y="16765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Click to edit the outline text format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673920" indent="-262440" algn="ctr"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Second Outline Level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2" marL="1028520" indent="-205560" algn="ctr">
              <a:spcBef>
                <a:spcPts val="901"/>
              </a:spcBef>
              <a:buClr>
                <a:srgbClr val="0000ff"/>
              </a:buClr>
              <a:buSzPct val="65000"/>
              <a:buFont typeface="Monotype Sorts" charset="2"/>
              <a:buChar char="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Third Outline Level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3" marL="1440000" indent="-205560" algn="ctr">
              <a:spcBef>
                <a:spcPts val="901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Fourth Outline Level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4" marL="1851480" indent="-205560" algn="ctr">
              <a:spcBef>
                <a:spcPts val="901"/>
              </a:spcBef>
              <a:buClr>
                <a:srgbClr val="0000ff"/>
              </a:buClr>
              <a:buSzPct val="65000"/>
              <a:buFont typeface="Monotype Sorts" charset="2"/>
              <a:buChar char="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Fifth Outline Level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5" marL="1851480" indent="-205560" algn="ctr">
              <a:spcBef>
                <a:spcPts val="901"/>
              </a:spcBef>
              <a:buClr>
                <a:srgbClr val="000000"/>
              </a:buClr>
              <a:buSzPct val="65000"/>
              <a:buFont typeface="Monotype Sorts" charset="2"/>
              <a:buChar char="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Sixth Outline Level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6" marL="1851480" indent="-205560" algn="ctr">
              <a:spcBef>
                <a:spcPts val="901"/>
              </a:spcBef>
              <a:buClr>
                <a:srgbClr val="000000"/>
              </a:buClr>
              <a:buSzPct val="65000"/>
              <a:buFont typeface="Monotype Sorts" charset="2"/>
              <a:buChar char="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Seventh Outline Level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77120"/>
            <a:ext cx="91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imes New Roman"/>
              </a:rPr>
              <a:t>© 2002 Grant Wiggins &amp; Jay McTighe</a:t>
            </a:r>
            <a:r>
              <a:rPr b="0" lang="en-US" sz="14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777777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777777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777777"/>
                </a:solidFill>
                <a:latin typeface="Times New Roman"/>
              </a:rPr>
              <a:t>UBD 0</a:t>
            </a:r>
            <a:r>
              <a:rPr b="1" lang="en-US" sz="1600" spc="-1" strike="noStrike">
                <a:solidFill>
                  <a:srgbClr val="777777"/>
                </a:solidFill>
                <a:latin typeface="Times New Roman"/>
              </a:rPr>
              <a:t>8/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418440"/>
            <a:ext cx="8158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6127-B1AD-4B73-8147-FE4DC1474B83}" type="slidenum"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hyperlink" Target="file:///GW%20iBook/Desktop%20Folder/Straw%20Building" TargetMode="Externa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www.cloquet.k12.mn.us/UBD%2011%2F12%2F99/Portfolios%2099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www.cloquet.k12.mn.us/UBD%2011%2F12%2F99/Portfolios%2099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www.cloquet.k12.mn.us/UBD%2011%2F12%2F99/Portfolios%2099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www.cloquet.k12.mn.us/UBD%2011%2F12%2F99/Portfolios%2099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Understanding by Design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19920" y="4599000"/>
          <a:ext cx="2743200" cy="18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4599000"/>
                    <a:ext cx="274320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800000"/>
                </a:solidFill>
                <a:latin typeface="Book Antiqua"/>
              </a:rPr>
              <a:t>the ‘big ideas’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800000"/>
                </a:solidFill>
                <a:latin typeface="Book Antiqua"/>
              </a:rPr>
              <a:t>of Ub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861048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The big ideas provide a way to connect and recall knowledge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52680" y="1447920"/>
            <a:ext cx="2286000" cy="1371600"/>
            <a:chOff x="3352680" y="1447920"/>
            <a:chExt cx="2286000" cy="1371600"/>
          </a:xfrm>
        </p:grpSpPr>
        <p:sp>
          <p:nvSpPr>
            <p:cNvPr id="219" name=""/>
            <p:cNvSpPr/>
            <p:nvPr/>
          </p:nvSpPr>
          <p:spPr>
            <a:xfrm>
              <a:off x="3352680" y="1447920"/>
              <a:ext cx="2286000" cy="1371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8640" y="172188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he Parallel postul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80880" y="2057400"/>
            <a:ext cx="2286000" cy="1447920"/>
            <a:chOff x="380880" y="2057400"/>
            <a:chExt cx="2286000" cy="1447920"/>
          </a:xfrm>
        </p:grpSpPr>
        <p:sp>
          <p:nvSpPr>
            <p:cNvPr id="222" name=""/>
            <p:cNvSpPr/>
            <p:nvPr/>
          </p:nvSpPr>
          <p:spPr>
            <a:xfrm>
              <a:off x="380880" y="2057400"/>
              <a:ext cx="2286000" cy="1447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6840" y="2372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S.A.S. Congrue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6320" y="4229280"/>
            <a:ext cx="2286000" cy="1714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4935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+ 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= C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943600" y="2209680"/>
            <a:ext cx="2666880" cy="1447920"/>
            <a:chOff x="5943600" y="2209680"/>
            <a:chExt cx="2666880" cy="1447920"/>
          </a:xfrm>
        </p:grpSpPr>
        <p:sp>
          <p:nvSpPr>
            <p:cNvPr id="227" name=""/>
            <p:cNvSpPr/>
            <p:nvPr/>
          </p:nvSpPr>
          <p:spPr>
            <a:xfrm flipV="1">
              <a:off x="5943600" y="335232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24480" y="2209680"/>
              <a:ext cx="2286000" cy="1447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00800" y="2525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ike rules of a g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324480" y="4762440"/>
            <a:ext cx="2590560" cy="1447920"/>
            <a:chOff x="6324480" y="4762440"/>
            <a:chExt cx="2590560" cy="1447920"/>
          </a:xfrm>
        </p:grpSpPr>
        <p:sp>
          <p:nvSpPr>
            <p:cNvPr id="231" name=""/>
            <p:cNvSpPr/>
            <p:nvPr/>
          </p:nvSpPr>
          <p:spPr>
            <a:xfrm>
              <a:off x="6324480" y="55245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29040" y="4762440"/>
              <a:ext cx="2286000" cy="1447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05360" y="507816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Like Bill of Righ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828800" y="2819160"/>
            <a:ext cx="4648320" cy="3581640"/>
            <a:chOff x="1828800" y="2819160"/>
            <a:chExt cx="4648320" cy="3581640"/>
          </a:xfrm>
        </p:grpSpPr>
        <p:sp>
          <p:nvSpPr>
            <p:cNvPr id="235" name=""/>
            <p:cNvSpPr/>
            <p:nvPr/>
          </p:nvSpPr>
          <p:spPr>
            <a:xfrm>
              <a:off x="2979720" y="3299040"/>
              <a:ext cx="3421080" cy="28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Times New Roman"/>
                </a:rPr>
                <a:t>Big Idea: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A syste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f many powerful inferences from a small se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f give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43200" y="3048120"/>
              <a:ext cx="3733920" cy="33526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1828800" y="3504960"/>
              <a:ext cx="9907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362320" y="48006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19360" y="2819160"/>
              <a:ext cx="759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Big Ideas” are typically revealed via – 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7560" y="1371240"/>
            <a:ext cx="79869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ore concept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ocusing theme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On-going debates/issue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sightful perspective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lluminating paradox/problem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Organizing theory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Overarching principl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Underlying assumption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(Key questions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8988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(Insightful inferences from facts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62485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55627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Big Ideas in Literacy: Examples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960" y="12952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ational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persuasion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(vs.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manipulation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audience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purpose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in writing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story,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as opposed to merely a list of events linked by “and then…”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eading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between the line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riting as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revision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non-rhyming poem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vs. pros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iction as a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window into truth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ritical yet empathetic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reader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writer’s </a:t>
            </a: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voic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ome questions for identifying truly “big ideas”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47560" y="1523520"/>
            <a:ext cx="79869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704160" indent="-27432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oes it have many layers and nuances, not obvious to the naïve or inexperienced person?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an it yield great depth and breadth of insight into the subject? Can it be used throughout K-12?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o you have to dig deep to really understand its subtle meanings and implications even if anyone can have a surface grasp of it?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s it (therefore) prone to misunderstanding as well as disagreement?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re you likely to change your mind about its meaning and importance over a lifetime?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oes it reflect the core ideas as judged by experts?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254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259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18880"/>
            <a:ext cx="760572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tage 1 –  Identify 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desired results.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Key: Focus on Big ideas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373680" indent="-2685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Enduring Understandings: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What specific insights about big ideas do we want students to leave with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73680" indent="-26856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essential question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will frame the teaching and learning, pointing toward key issues and ideas, and suggest meaningful and provocative inquiry into content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73680" indent="-26856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should students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know and be able to do?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73680" indent="-26856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ontent standard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are addressed explicitl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by the unit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6" name=""/>
          <p:cNvSpPr/>
          <p:nvPr/>
        </p:nvSpPr>
        <p:spPr>
          <a:xfrm>
            <a:off x="8534520" y="205740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34520" y="495288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534520" y="35053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534520" y="571500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The “big idea” of 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tage 1: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There is a clear focus in the unit 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n the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big ideas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 Antiqua"/>
              </a:rPr>
              <a:t>Implications:</a:t>
            </a:r>
            <a:endParaRPr b="1" i="1" lang="en-US" sz="3200" spc="-1" strike="noStrike">
              <a:solidFill>
                <a:srgbClr val="a50021"/>
              </a:solidFill>
              <a:latin typeface="Book Antiqua"/>
            </a:endParaRPr>
          </a:p>
          <a:p>
            <a:pPr lvl="1" marL="329040" indent="-2361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rganize content around key concepts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29040" indent="-2361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how how the big ideas offer a purpose and rationale for the student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29040" indent="-2361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You will need to “unpack” Content standards in many cases to make the implied big ideas clear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7086600" y="82440"/>
            <a:ext cx="1785960" cy="189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4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An understanding is a 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marL="424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7534"/>
                </a:solidFill>
                <a:latin typeface="Book Antiqua"/>
              </a:rPr>
              <a:t>“</a:t>
            </a:r>
            <a:r>
              <a:rPr b="1" i="1" lang="en-US" sz="3600" spc="-1" strike="noStrike">
                <a:solidFill>
                  <a:srgbClr val="187534"/>
                </a:solidFill>
                <a:latin typeface="Book Antiqua"/>
              </a:rPr>
              <a:t>moral of the story”</a:t>
            </a: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 about the big ideas 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7927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92720" indent="-262440">
              <a:lnSpc>
                <a:spcPct val="110000"/>
              </a:lnSpc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hat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specific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insights will students take away about the the meaning of ‘content’ via big ideas?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lvl="1" marL="792720" indent="-26244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Understandings summarize the desired insights we want students to realiz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From Big Ideas to </a:t>
            </a:r>
            <a:r>
              <a:rPr b="0" i="1" lang="en-US" sz="4400" spc="-1" strike="noStrike">
                <a:solidFill>
                  <a:srgbClr val="4040ff"/>
                </a:solidFill>
                <a:latin typeface="Arial"/>
              </a:rPr>
              <a:t>Understandings</a:t>
            </a: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 about them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50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7640" y="2978280"/>
            <a:ext cx="7616880" cy="1054080"/>
            <a:chOff x="917640" y="2978280"/>
            <a:chExt cx="7616880" cy="1054080"/>
          </a:xfrm>
        </p:grpSpPr>
        <p:sp>
          <p:nvSpPr>
            <p:cNvPr id="53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17640" y="3254400"/>
              <a:ext cx="7616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56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58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3 Stages of 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(“Backward”) Design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Understanding, defined: 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They are...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81480" indent="-2656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specific generalization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about the “big ideas.” They summarize the key meanings, inferences, and importance of the ‘content’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1480" indent="-2656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eliberately framed as a </a:t>
            </a: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full sentence “moral of the story”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“Students will understand </a:t>
            </a:r>
            <a:r>
              <a:rPr b="1" i="1" lang="en-US" sz="3200" spc="-1" strike="noStrike">
                <a:solidFill>
                  <a:srgbClr val="a50021"/>
                </a:solidFill>
                <a:latin typeface="Book Antiqua"/>
              </a:rPr>
              <a:t>THAT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…”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1480" indent="-2656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Require “uncoverage”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because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they are not “facts” to the novice, but </a:t>
            </a: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unobvious inference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drawn from facts - </a:t>
            </a: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counter-intuitive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&amp; easily misunderstood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7620120" y="4876920"/>
            <a:ext cx="1338120" cy="16002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Understandings: examples...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734040" indent="-28584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Great artists often break with conventions to better express what they see and feel.</a:t>
            </a:r>
            <a:endParaRPr b="1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4040" indent="-28584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Price is a function of supply and demand.</a:t>
            </a:r>
            <a:endParaRPr b="1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4040" indent="-28584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Friendships can be deepened or undone by hard times</a:t>
            </a:r>
            <a:endParaRPr b="1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4040" indent="-28584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History is the story told by the “winners”</a:t>
            </a:r>
            <a:endParaRPr b="1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4040" indent="-28584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F = ma (weight is not mass)</a:t>
            </a:r>
            <a:endParaRPr b="1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4040" indent="-28584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Math models simplify physical relations – and even sometimes </a:t>
            </a:r>
            <a:r>
              <a:rPr b="1" i="1" lang="en-US" sz="3000" spc="-1" strike="noStrike">
                <a:solidFill>
                  <a:srgbClr val="000000"/>
                </a:solidFill>
                <a:latin typeface="Book Antiqua"/>
              </a:rPr>
              <a:t>distort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relations – to deepen our understanding of them</a:t>
            </a:r>
            <a:endParaRPr b="1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34040" indent="-28584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he storyteller rarely tells the mean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of the story</a:t>
            </a:r>
            <a:endParaRPr b="1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1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Knowledge vs. Understanding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59608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81480" indent="-2656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n understanding is an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unobvious and important inferenc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needing “uncoverage” in the unit;  knowledge is a set of established “facts”.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1480" indent="-2656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Understandings make sense of facts, skills, and ideas: they tell us what our knowledge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means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;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hey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‘connect the dots’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1480" indent="-2656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ny understandings are inherently fallible “theories”; knowledge consists of the accepted “facts” upon which a “theory” is based and the “facts” which a “theory” yields.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What questions –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704160" indent="-2743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re </a:t>
            </a:r>
            <a:r>
              <a:rPr b="1" lang="en-US" sz="2800" spc="-1" strike="noStrike">
                <a:solidFill>
                  <a:srgbClr val="a50021"/>
                </a:solidFill>
                <a:latin typeface="Book Antiqua"/>
              </a:rPr>
              <a:t>arguable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- and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important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to argue about? 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re at the heart of the subject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recur - and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recur - in professional work, adult life, as well as in classroom inquiry? 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raise </a:t>
            </a:r>
            <a:r>
              <a:rPr b="1" lang="en-US" sz="2800" spc="-1" strike="noStrike">
                <a:solidFill>
                  <a:srgbClr val="a50021"/>
                </a:solidFill>
                <a:latin typeface="Book Antiqua"/>
              </a:rPr>
              <a:t>more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questions – provoking and sustaining engaged inquiry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ften raise important conceptual or philosophical issues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4160" indent="-2743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an provide organizing purpose for meaningful &amp; connected learning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6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8600" y="1523880"/>
            <a:ext cx="4191120" cy="464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Essential vs. “leading” Q’s used in teaching (Stage 3)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17672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Book Antiqua"/>
              </a:rPr>
              <a:t>Essential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- STAGE 1</a:t>
            </a:r>
            <a:endParaRPr b="1" i="1" lang="en-US" sz="3200" spc="-1" strike="noStrike">
              <a:solidFill>
                <a:srgbClr val="a50021"/>
              </a:solidFill>
              <a:latin typeface="Book Antiqua"/>
            </a:endParaRPr>
          </a:p>
          <a:p>
            <a:pPr lvl="1" marL="711360" indent="-2772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sked to be argued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1360" indent="-2772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esigned to “uncover” new ideas, views, lines of argument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1360" indent="-2772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et up inquiry, heading to new understandings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419720" y="152352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Book Antiqua"/>
              </a:rPr>
              <a:t>Leading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- STAGE 3</a:t>
            </a:r>
            <a:endParaRPr b="1" i="1" lang="en-US" sz="3200" spc="-1" strike="noStrike">
              <a:solidFill>
                <a:srgbClr val="a50021"/>
              </a:solidFill>
              <a:latin typeface="Book Antiqua"/>
            </a:endParaRPr>
          </a:p>
          <a:p>
            <a:pPr lvl="1" marL="74916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sked as a reminder, to prompt recall 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916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esigned to “cover” knowledge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916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oint to a single, straightforward fact - a rhetorical question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"/>
          <p:cNvSpPr/>
          <p:nvPr/>
        </p:nvSpPr>
        <p:spPr>
          <a:xfrm>
            <a:off x="4724280" y="1523880"/>
            <a:ext cx="4191120" cy="464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41600" indent="-28872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ho are my true friends - and how do I know for sure?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How “rational” is the market?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Does a good read differ from a ‘great book’? Why are some books fads, and others classics? 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o what extent is geography destiny? 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hould an axiom be obvious?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How different is a scientific theory from a plausible belief?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hat is the government’s proper role?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4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60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296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299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302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58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Template fields ask:</a:t>
            </a:r>
            <a:br>
              <a:rPr sz="3600"/>
            </a:b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are key complex performance tasks indicative of understanding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other evidence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will be collected to build the case for understanding, knowledge, and skill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rubrics will be used to assess complex performance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9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The evidence should be credible &amp; helpful. 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Book Antiqua"/>
              </a:rPr>
              <a:t>Implications: the assessments should –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614160" indent="-2394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Be grounded in real-world applications,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supplemented as needed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by more traditional school evidenc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14160" indent="-2394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rovide useful feedback to the learner, be transparent, and minimize secrecy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14160" indent="-2394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Be valid, reliable - aligned with the desired results of Stage 1 (and fair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Just because the student “knows it” …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Evidence of understanding is a </a:t>
            </a:r>
            <a:r>
              <a:rPr b="1" lang="en-US" sz="3600" spc="-1" strike="noStrike">
                <a:solidFill>
                  <a:srgbClr val="a50021"/>
                </a:solidFill>
                <a:latin typeface="Book Antiqua"/>
              </a:rPr>
              <a:t>greater challenge</a:t>
            </a: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 than evidence that the student knows a correct or valid answer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681480" indent="-2656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Understanding is inferred, not seen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1480" indent="-2656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t can only be inferred if we see evidence that the student knows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(it works)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so what?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(why it matters),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how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(to apply it) – not just knowing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specific inference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Why “backward”?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The stages are logical but they go against habits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718920" indent="-280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e’re used to jumping to lesson and activity ideas - before clarifying our performance goals for students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By thinking through the assessments upfront, we ensure greater alignment of our goals and means, and that teaching is focused on desired results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i.e. You </a:t>
            </a:r>
            <a:r>
              <a:rPr b="1" i="1" lang="en-US" sz="3600" spc="-1" strike="noStrike" u="sng">
                <a:solidFill>
                  <a:srgbClr val="a50021"/>
                </a:solidFill>
                <a:uFillTx/>
                <a:latin typeface="Book Antiqua"/>
              </a:rPr>
              <a:t>really</a:t>
            </a: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 understand when you can: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718920" indent="-280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explain, connect, systematize, predict it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how its meaning, importance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pply or adapt it to novel situations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ee it as one plausible perspective among others, question its assumptions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ee it as its author/speaker saw it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8920" indent="-280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void and point out common misconceptions, biases, or simplistic views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cenarios for Authentic Tasks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Build assessments anchored in authentic tasks using GRASPS: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406440" indent="-291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is the </a:t>
            </a:r>
            <a:r>
              <a:rPr b="1" lang="en-US" sz="3600" spc="-1" strike="noStrike">
                <a:solidFill>
                  <a:srgbClr val="0033cc"/>
                </a:solidFill>
                <a:latin typeface="Book Antiqua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al in the scenario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lnSpc>
                <a:spcPct val="7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is the </a:t>
            </a:r>
            <a:r>
              <a:rPr b="1" lang="en-US" sz="3600" spc="-1" strike="noStrike">
                <a:solidFill>
                  <a:srgbClr val="0033cc"/>
                </a:solidFill>
                <a:latin typeface="Book Antiqu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le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lnSpc>
                <a:spcPct val="7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o is the </a:t>
            </a:r>
            <a:r>
              <a:rPr b="1" lang="en-US" sz="3600" spc="-1" strike="noStrike">
                <a:solidFill>
                  <a:srgbClr val="0033cc"/>
                </a:solidFill>
                <a:latin typeface="Book Antiqu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udience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lnSpc>
                <a:spcPct val="7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is your </a:t>
            </a:r>
            <a:r>
              <a:rPr b="1" lang="en-US" sz="4000" spc="-1" strike="noStrike">
                <a:solidFill>
                  <a:srgbClr val="0033cc"/>
                </a:solidFill>
                <a:latin typeface="Book Antiqua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tuation (context)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hat is the </a:t>
            </a:r>
            <a:r>
              <a:rPr b="1" lang="en-US" sz="3600" spc="-1" strike="noStrike">
                <a:solidFill>
                  <a:srgbClr val="0033cc"/>
                </a:solidFill>
                <a:latin typeface="Book Antiqu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erformance challenge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lnSpc>
                <a:spcPct val="7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By what </a:t>
            </a:r>
            <a:r>
              <a:rPr b="1" lang="en-US" sz="3600" spc="-1" strike="noStrike">
                <a:solidFill>
                  <a:srgbClr val="4040ff"/>
                </a:solidFill>
                <a:latin typeface="Book Antiqua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andards will work be judged in the scenario?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"/>
          <p:cNvSpPr/>
          <p:nvPr/>
        </p:nvSpPr>
        <p:spPr>
          <a:xfrm>
            <a:off x="633240" y="402372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3240" y="457308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3240" y="512064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3240" y="237744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3240" y="292680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3240" y="347616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05920" y="762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9000"/>
                            </p:stCondLst>
                            <p:childTnLst>
                              <p:par>
                                <p:cTn id="4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6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Reliability: Snapshot vs. 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Photo Album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47560" y="136224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50021"/>
                </a:solidFill>
                <a:latin typeface="Book Antiqua"/>
              </a:rPr>
              <a:t>We need patterns that overcome inherent measurement error</a:t>
            </a:r>
            <a:endParaRPr b="1" i="1" lang="en-US" sz="4000" spc="-1" strike="noStrike">
              <a:solidFill>
                <a:srgbClr val="a50021"/>
              </a:solidFill>
              <a:latin typeface="Book Antiqua"/>
            </a:endParaRPr>
          </a:p>
          <a:p>
            <a:pPr lvl="1" marL="74916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ound assessment (particularly of State Standards) requires multiple evidence over time - a photo album vs. a single snapshot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733920" y="4038480"/>
            <a:ext cx="3504960" cy="230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50021"/>
                </a:solidFill>
                <a:latin typeface="Book Antiqua"/>
              </a:rPr>
              <a:t>Varied types, over time:</a:t>
            </a:r>
            <a:endParaRPr b="1" i="1" lang="en-US" sz="4000" spc="-1" strike="noStrike">
              <a:solidFill>
                <a:srgbClr val="a50021"/>
              </a:solidFill>
              <a:latin typeface="Book Antiqua"/>
            </a:endParaRPr>
          </a:p>
          <a:p>
            <a:pPr lvl="1" marL="749160" indent="-29196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uthentic tasks and project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9160" indent="-29196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cademic exam questions, prompts, and problem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9160" indent="-29196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quizzes and test item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9160" indent="-29196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formal checks for understanding 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9160" indent="-29196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tudent self-assessment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ome key understandings about assessment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438200"/>
            <a:ext cx="85341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lvl="1" marL="614160" indent="-2394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he local assessment is </a:t>
            </a:r>
            <a:r>
              <a:rPr b="1" lang="en-US" sz="2800" spc="-1" strike="noStrike">
                <a:solidFill>
                  <a:srgbClr val="a50021"/>
                </a:solidFill>
                <a:latin typeface="Book Antiqua"/>
              </a:rPr>
              <a:t>direct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; the state assessment is </a:t>
            </a:r>
            <a:r>
              <a:rPr b="1" lang="en-US" sz="2800" spc="-1" strike="noStrike">
                <a:solidFill>
                  <a:srgbClr val="a50021"/>
                </a:solidFill>
                <a:latin typeface="Book Antiqua"/>
              </a:rPr>
              <a:t>indirect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(an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audit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of local work)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937080" indent="-18720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t is therefore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always unwise to merely mimi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he state’s assessment approach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14160" indent="-2394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he only way to assess for understanding is via contextualized performance - “applying” in the broadest sense our knowledge and skill, wisely and effectively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937080" indent="-18720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rformance is more than the sum of the drills: using only conventional quizzes and tests is insufficient and as misleading  as relying only on sideline drills to judge athletic performance abilit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337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911240" y="4508640"/>
            <a:ext cx="6769080" cy="1332000"/>
            <a:chOff x="1911240" y="4508640"/>
            <a:chExt cx="6769080" cy="1332000"/>
          </a:xfrm>
        </p:grpSpPr>
        <p:sp>
          <p:nvSpPr>
            <p:cNvPr id="342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4654440"/>
              <a:ext cx="66294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3. Plan learning experiences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&amp; instruc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58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tage 3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533520" y="220680"/>
            <a:ext cx="7758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tage 3 big ide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71600" y="1523880"/>
            <a:ext cx="4343400" cy="4572000"/>
            <a:chOff x="1371600" y="1523880"/>
            <a:chExt cx="4343400" cy="4572000"/>
          </a:xfrm>
        </p:grpSpPr>
        <p:sp>
          <p:nvSpPr>
            <p:cNvPr id="349" name=""/>
            <p:cNvSpPr/>
            <p:nvPr/>
          </p:nvSpPr>
          <p:spPr>
            <a:xfrm>
              <a:off x="1371600" y="1523880"/>
              <a:ext cx="4343400" cy="448632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6000" y="1895400"/>
              <a:ext cx="1295280" cy="42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Book Antiqu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581280" y="1905120"/>
            <a:ext cx="2057400" cy="3733200"/>
            <a:chOff x="3581280" y="1905120"/>
            <a:chExt cx="2057400" cy="3733200"/>
          </a:xfrm>
        </p:grpSpPr>
        <p:sp>
          <p:nvSpPr>
            <p:cNvPr id="352" name=""/>
            <p:cNvSpPr/>
            <p:nvPr/>
          </p:nvSpPr>
          <p:spPr>
            <a:xfrm>
              <a:off x="3581280" y="1905120"/>
              <a:ext cx="2057400" cy="37332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86200" y="3240720"/>
              <a:ext cx="1471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505320" y="1523880"/>
            <a:ext cx="4343400" cy="4800600"/>
            <a:chOff x="3505320" y="1523880"/>
            <a:chExt cx="4343400" cy="4800600"/>
          </a:xfrm>
        </p:grpSpPr>
        <p:sp>
          <p:nvSpPr>
            <p:cNvPr id="355" name=""/>
            <p:cNvSpPr/>
            <p:nvPr/>
          </p:nvSpPr>
          <p:spPr>
            <a:xfrm>
              <a:off x="3505320" y="1523880"/>
              <a:ext cx="4343400" cy="456264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2124000"/>
              <a:ext cx="1295640" cy="42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9160" indent="-291960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Book Antiqua"/>
                </a:rPr>
                <a:t>	</a:t>
              </a: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	</a:t>
              </a: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9160" indent="-291960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	</a:t>
              </a: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G</a:t>
              </a:r>
              <a:br>
                <a:rPr sz="3200"/>
              </a:b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A</a:t>
              </a:r>
              <a:br>
                <a:rPr sz="3200"/>
              </a:b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G</a:t>
              </a:r>
              <a:br>
                <a:rPr sz="3200"/>
              </a:b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IN</a:t>
              </a:r>
              <a:br>
                <a:rPr sz="3200"/>
              </a:br>
              <a:r>
                <a:rPr b="1" lang="en-US" sz="3200" spc="-1" strike="noStrike">
                  <a:solidFill>
                    <a:srgbClr val="a50021"/>
                  </a:solidFill>
                  <a:latin typeface="Book Antiqua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7086600" y="82440"/>
            <a:ext cx="1785960" cy="18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50021"/>
                </a:solidFill>
                <a:latin typeface="Book Antiqua"/>
              </a:rPr>
              <a:t>A focus on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engaging</a:t>
            </a:r>
            <a:r>
              <a:rPr b="1" i="1" lang="en-US" sz="4000" spc="-1" strike="noStrike">
                <a:solidFill>
                  <a:srgbClr val="009900"/>
                </a:solidFill>
                <a:latin typeface="Book Antiqua"/>
              </a:rPr>
              <a:t> </a:t>
            </a:r>
            <a:r>
              <a:rPr b="1" i="1" lang="en-US" sz="4000" spc="-1" strike="noStrike">
                <a:solidFill>
                  <a:srgbClr val="a50021"/>
                </a:solidFill>
                <a:latin typeface="Book Antiqua"/>
              </a:rPr>
              <a:t>and</a:t>
            </a:r>
            <a:r>
              <a:rPr b="1" i="1" lang="en-US" sz="4000" spc="-1" strike="noStrike">
                <a:solidFill>
                  <a:srgbClr val="009900"/>
                </a:solidFill>
                <a:latin typeface="Book Antiqua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effective</a:t>
            </a:r>
            <a:r>
              <a:rPr b="1" i="1" lang="en-US" sz="4000" spc="-1" strike="noStrike">
                <a:solidFill>
                  <a:srgbClr val="a50021"/>
                </a:solidFill>
                <a:latin typeface="Book Antiqua"/>
              </a:rPr>
              <a:t> learning, “designed in”</a:t>
            </a:r>
            <a:endParaRPr b="1" i="1" lang="en-US" sz="4000" spc="-1" strike="noStrike">
              <a:solidFill>
                <a:srgbClr val="a50021"/>
              </a:solidFill>
              <a:latin typeface="Book Antiqua"/>
            </a:endParaRPr>
          </a:p>
          <a:p>
            <a:pPr lvl="1" marL="349200" indent="-2509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hat learning experiences and instruction will promote the desired understanding, knowledge and skill of Stage 1?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49200" indent="-2509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How will the design ensure that all students are maximally engaged and effective at meeting the goals? 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0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956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Where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 are we headed?”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(the </a:t>
            </a:r>
            <a:r>
              <a:rPr b="1" i="1" lang="en-US" sz="2600" spc="-1" strike="noStrike">
                <a:solidFill>
                  <a:srgbClr val="000000"/>
                </a:solidFill>
                <a:latin typeface="Book Antiqua"/>
              </a:rPr>
              <a:t>student’s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 Q!) </a:t>
            </a:r>
            <a:endParaRPr b="1" i="1" lang="en-US" sz="2600" spc="-1" strike="noStrike">
              <a:solidFill>
                <a:srgbClr val="a50021"/>
              </a:solidFill>
              <a:latin typeface="Book Antiqua"/>
            </a:endParaRPr>
          </a:p>
          <a:p>
            <a:pPr marL="25956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How will the student be ‘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hooked’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1" i="1" lang="en-US" sz="2600" spc="-1" strike="noStrike">
              <a:solidFill>
                <a:srgbClr val="a50021"/>
              </a:solidFill>
              <a:latin typeface="Book Antiqua"/>
            </a:endParaRPr>
          </a:p>
          <a:p>
            <a:pPr marL="25956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What opportunities will there be to be 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equipped, 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and to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 experience 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and 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explore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 key ideas?</a:t>
            </a:r>
            <a:endParaRPr b="1" i="1" lang="en-US" sz="2600" spc="-1" strike="noStrike">
              <a:solidFill>
                <a:srgbClr val="a50021"/>
              </a:solidFill>
              <a:latin typeface="Book Antiqua"/>
            </a:endParaRPr>
          </a:p>
          <a:p>
            <a:pPr marL="25956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What will provide opportunities to 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rethink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, rehearse, refine and revise?</a:t>
            </a:r>
            <a:endParaRPr b="1" i="1" lang="en-US" sz="2600" spc="-1" strike="noStrike">
              <a:solidFill>
                <a:srgbClr val="a50021"/>
              </a:solidFill>
              <a:latin typeface="Book Antiqua"/>
            </a:endParaRPr>
          </a:p>
          <a:p>
            <a:pPr marL="25956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How will students 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evaluate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 their work?</a:t>
            </a:r>
            <a:endParaRPr b="1" i="1" lang="en-US" sz="2600" spc="-1" strike="noStrike">
              <a:solidFill>
                <a:srgbClr val="a50021"/>
              </a:solidFill>
              <a:latin typeface="Book Antiqua"/>
            </a:endParaRPr>
          </a:p>
          <a:p>
            <a:pPr marL="25956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How will the work be 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tailored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 to individual needs, interests, styles?</a:t>
            </a:r>
            <a:endParaRPr b="1" i="1" lang="en-US" sz="2600" spc="-1" strike="noStrike">
              <a:solidFill>
                <a:srgbClr val="a50021"/>
              </a:solidFill>
              <a:latin typeface="Book Antiqua"/>
            </a:endParaRPr>
          </a:p>
          <a:p>
            <a:pPr marL="25956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How will the work be </a:t>
            </a:r>
            <a:r>
              <a:rPr b="1" lang="en-US" sz="2600" spc="-1" strike="noStrike">
                <a:solidFill>
                  <a:srgbClr val="a50021"/>
                </a:solidFill>
                <a:latin typeface="Book Antiqua"/>
              </a:rPr>
              <a:t>organized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 for maximal engagement and effectiveness?</a:t>
            </a:r>
            <a:endParaRPr b="1" i="1" lang="en-US" sz="2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63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500"/>
                            </p:stCondLst>
                            <p:childTnLst>
                              <p:par>
                                <p:cTn id="58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0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8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Note that some fields require you to enter one idea at a time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960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ne idea per box allows for more powerful searching, selecting, and attaching to units when you browse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373680" indent="-2685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ssential question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73680" indent="-2685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nduring understanding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73680" indent="-2685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asks of complex performanc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373680" indent="-2685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ubric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Also: makes expert reviewer assignment of “blue ribbons” more precise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73" name=""/>
          <p:cNvSpPr/>
          <p:nvPr/>
        </p:nvSpPr>
        <p:spPr>
          <a:xfrm>
            <a:off x="8381880" y="4191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1880" y="480060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381880" y="358128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1880" y="297180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4942800" y="1665720"/>
            <a:ext cx="4103280" cy="4525200"/>
            <a:chOff x="4942800" y="1665720"/>
            <a:chExt cx="4103280" cy="4525200"/>
          </a:xfrm>
        </p:grpSpPr>
        <p:sp>
          <p:nvSpPr>
            <p:cNvPr id="64" name=""/>
            <p:cNvSpPr/>
            <p:nvPr/>
          </p:nvSpPr>
          <p:spPr>
            <a:xfrm rot="266400">
              <a:off x="5094360" y="2034000"/>
              <a:ext cx="3200400" cy="4038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66400">
              <a:off x="5176080" y="1964160"/>
              <a:ext cx="3200400" cy="4038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66400">
              <a:off x="5334120" y="1900080"/>
              <a:ext cx="3200400" cy="4038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66400">
              <a:off x="5568120" y="1838880"/>
              <a:ext cx="3124080" cy="40388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266400">
              <a:off x="5801760" y="1779120"/>
              <a:ext cx="3092400" cy="403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266400">
              <a:off x="6101640" y="2463120"/>
              <a:ext cx="2514600" cy="8380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66400">
              <a:off x="5912640" y="4893840"/>
              <a:ext cx="2514600" cy="83808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66400">
              <a:off x="6006960" y="3678480"/>
              <a:ext cx="2514600" cy="8384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 rot="266400">
              <a:off x="6858360" y="1858320"/>
              <a:ext cx="1206360" cy="2160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Unit Template</a:t>
              </a:r>
              <a:endPara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66400">
              <a:off x="6224400" y="2185200"/>
              <a:ext cx="21337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ektoMM_503 BD 488 NO"/>
                </a:rPr>
                <a:t>Overarching understanding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266400">
              <a:off x="5802480" y="4651920"/>
              <a:ext cx="22860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ektoMM_503 BD 488 NO"/>
                </a:rPr>
                <a:t>Knowledge and skill to be acquir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66400">
              <a:off x="6125760" y="3429000"/>
              <a:ext cx="16765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ektoMM_503 BD 488 NO"/>
                </a:rPr>
                <a:t>Essential </a:t>
              </a:r>
              <a:r>
                <a:rPr b="0" lang="en-US" sz="900" spc="-1" strike="noStrike">
                  <a:solidFill>
                    <a:srgbClr val="000000"/>
                  </a:solidFill>
                  <a:latin typeface="TektoMMObl_503 BD 850 EX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ektoMM_503 BD 488 NO"/>
                </a:rPr>
                <a:t>Ques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295200"/>
            <a:ext cx="838188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Understanding by Design Template: the basis of Exchange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lvl="1" marL="673920" indent="-262440"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The ubd template embodies the 3 stages of “Backward Design”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lvl="1" marL="673920" indent="-262440"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The template provides an easy mechanism for exchange of ideas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Help in the Exchange about all template design elements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47200" y="1447920"/>
            <a:ext cx="7605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Get to know the icons!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40644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 summary of each field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Examples for each field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 self-test of your understandi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for that field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FAQ’s and Glossary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 special unit in which each field is explained: click the icon for UBD TEMPLATE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06440" indent="-291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eb links to resources for that field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"/>
          <p:cNvSpPr/>
          <p:nvPr/>
        </p:nvSpPr>
        <p:spPr>
          <a:xfrm>
            <a:off x="7848720" y="2057400"/>
            <a:ext cx="457200" cy="457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48720" y="2666880"/>
            <a:ext cx="533160" cy="533520"/>
          </a:xfrm>
          <a:prstGeom prst="star5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848720" y="4038480"/>
            <a:ext cx="457200" cy="4572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850160" y="31237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67480" y="4800600"/>
            <a:ext cx="1371600" cy="60948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Ubd 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96080" y="5715000"/>
            <a:ext cx="838440" cy="762120"/>
          </a:xfrm>
          <a:prstGeom prst="sun">
            <a:avLst>
              <a:gd name="adj" fmla="val 25000"/>
            </a:avLst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for further information...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47560" y="1523880"/>
            <a:ext cx="79869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Contact us: 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749160" indent="-291960"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Grant Wiggins, co-author: grant@ubdexchange.org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lvl="1" marL="749160" indent="-291960"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Jay McTighe, co-author: jmctigh@aol.com 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lvl="1" marL="749160" indent="-291960">
              <a:spcBef>
                <a:spcPts val="90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Steve Petti, webmaster: steve@newimagemedia.com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06768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The “big ideas” of each stage: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8320" y="1066680"/>
            <a:ext cx="3813120" cy="5410080"/>
            <a:chOff x="4648320" y="1066680"/>
            <a:chExt cx="3813120" cy="5410080"/>
          </a:xfrm>
        </p:grpSpPr>
        <p:sp>
          <p:nvSpPr>
            <p:cNvPr id="80" name=""/>
            <p:cNvSpPr/>
            <p:nvPr/>
          </p:nvSpPr>
          <p:spPr>
            <a:xfrm>
              <a:off x="6703920" y="1814400"/>
              <a:ext cx="1649520" cy="1316160"/>
            </a:xfrm>
            <a:prstGeom prst="roundRect">
              <a:avLst>
                <a:gd name="adj" fmla="val 100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65760" y="1066680"/>
              <a:ext cx="3595680" cy="54100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9800" y="3208320"/>
              <a:ext cx="3581640" cy="212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68880" y="3252600"/>
              <a:ext cx="1268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</a:rPr>
                <a:t>Assessment Evide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9800" y="4917960"/>
              <a:ext cx="3581640" cy="212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47000" y="4952880"/>
              <a:ext cx="58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</a:rPr>
                <a:t>Learning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93120" y="4952880"/>
              <a:ext cx="56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</a:rPr>
                <a:t>Activit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95640" y="1515960"/>
              <a:ext cx="3559320" cy="212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10280" y="1542960"/>
              <a:ext cx="2961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</a:rPr>
                <a:t>Understandings                    Essential Ques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35440" y="3295440"/>
              <a:ext cx="101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727520" y="476064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727520" y="465768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727520" y="455616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4727520" y="444492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727520" y="434340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4727520" y="424008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727520" y="413064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727520" y="402696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727520" y="392580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727520" y="381420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727520" y="371304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727520" y="360936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727520" y="349992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727520" y="339660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727520" y="329508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27520" y="4838760"/>
              <a:ext cx="101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35440" y="5027400"/>
              <a:ext cx="93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7520" y="6389640"/>
              <a:ext cx="101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56240" y="3673440"/>
              <a:ext cx="144360" cy="803160"/>
            </a:xfrm>
            <a:custGeom>
              <a:avLst/>
              <a:gdLst>
                <a:gd name="textAreaLeft" fmla="*/ 19440 w 144360"/>
                <a:gd name="textAreaRight" fmla="*/ 124920 w 144360"/>
                <a:gd name="textAreaTop" fmla="*/ 19440 h 803160"/>
                <a:gd name="textAreaBottom" fmla="*/ 783720 h 803160"/>
              </a:gdLst>
              <a:ahLst/>
              <a:rect l="textAreaLeft" t="textAreaTop" r="textAreaRight" b="textAreaBottom"/>
              <a:pathLst>
                <a:path w="21600" h="119928">
                  <a:moveTo>
                    <a:pt x="9969" y="0"/>
                  </a:moveTo>
                  <a:arcTo wR="9969" hR="9969" stAng="16200000" swAng="-5400000"/>
                  <a:lnTo>
                    <a:pt x="0" y="109959"/>
                  </a:lnTo>
                  <a:arcTo wR="9969" hR="9969" stAng="10800000" swAng="-5400000"/>
                  <a:lnTo>
                    <a:pt x="11631" y="119928"/>
                  </a:lnTo>
                  <a:arcTo wR="9969" hR="9969" stAng="5400000" swAng="-5400000"/>
                  <a:lnTo>
                    <a:pt x="21600" y="9969"/>
                  </a:lnTo>
                  <a:arcTo wR="9969" hR="9969" stAng="0" swAng="-5400000"/>
                  <a:close/>
                </a:path>
              </a:pathLst>
            </a:custGeom>
            <a:solidFill>
              <a:srgbClr val="f0ccda"/>
            </a:solidFill>
            <a:ln w="9360">
              <a:solidFill>
                <a:srgbClr val="f0cc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27520" y="3700440"/>
              <a:ext cx="4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5360" y="3795480"/>
              <a:ext cx="3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2480" y="38890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4280" y="398448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6080" y="40780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6080" y="429084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721040" y="631188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721040" y="620820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721040" y="609912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721040" y="599544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721040" y="588636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721040" y="577476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721040" y="567360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721040" y="556416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721040" y="546048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721040" y="5351400"/>
              <a:ext cx="648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727520" y="523980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727520" y="513864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727520" y="502704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56240" y="5311800"/>
              <a:ext cx="144360" cy="803160"/>
            </a:xfrm>
            <a:custGeom>
              <a:avLst/>
              <a:gdLst>
                <a:gd name="textAreaLeft" fmla="*/ 19440 w 144360"/>
                <a:gd name="textAreaRight" fmla="*/ 124920 w 144360"/>
                <a:gd name="textAreaTop" fmla="*/ 19440 h 803160"/>
                <a:gd name="textAreaBottom" fmla="*/ 783720 h 803160"/>
              </a:gdLst>
              <a:ahLst/>
              <a:rect l="textAreaLeft" t="textAreaTop" r="textAreaRight" b="textAreaBottom"/>
              <a:pathLst>
                <a:path w="21600" h="119928">
                  <a:moveTo>
                    <a:pt x="9969" y="0"/>
                  </a:moveTo>
                  <a:arcTo wR="9969" hR="9969" stAng="16200000" swAng="-5400000"/>
                  <a:lnTo>
                    <a:pt x="0" y="109959"/>
                  </a:lnTo>
                  <a:arcTo wR="9969" hR="9969" stAng="10800000" swAng="-5400000"/>
                  <a:lnTo>
                    <a:pt x="11631" y="119928"/>
                  </a:lnTo>
                  <a:arcTo wR="9969" hR="9969" stAng="5400000" swAng="-5400000"/>
                  <a:lnTo>
                    <a:pt x="21600" y="9969"/>
                  </a:lnTo>
                  <a:arcTo wR="9969" hR="9969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27520" y="5338800"/>
              <a:ext cx="4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5360" y="5433840"/>
              <a:ext cx="3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22480" y="552744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24280" y="562284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26080" y="571644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26080" y="59292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71240" y="1125360"/>
              <a:ext cx="727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Standard(s)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7520" y="1593720"/>
              <a:ext cx="101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721040" y="306648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721040" y="296532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721040" y="285372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721040" y="275256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721040" y="264888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721040" y="253980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721040" y="243684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721040" y="233496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721040" y="222408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721040" y="212220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721040" y="201924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721040" y="190980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721040" y="180648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721040" y="170496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721040" y="159372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21040" y="3138480"/>
              <a:ext cx="101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1979640"/>
              <a:ext cx="145800" cy="803160"/>
            </a:xfrm>
            <a:custGeom>
              <a:avLst/>
              <a:gdLst>
                <a:gd name="textAreaLeft" fmla="*/ 19440 w 145800"/>
                <a:gd name="textAreaRight" fmla="*/ 126360 w 145800"/>
                <a:gd name="textAreaTop" fmla="*/ 19440 h 803160"/>
                <a:gd name="textAreaBottom" fmla="*/ 783720 h 803160"/>
              </a:gdLst>
              <a:ahLst/>
              <a:rect l="textAreaLeft" t="textAreaTop" r="textAreaRight" b="textAreaBottom"/>
              <a:pathLst>
                <a:path w="21600" h="118747">
                  <a:moveTo>
                    <a:pt x="9861" y="0"/>
                  </a:moveTo>
                  <a:arcTo wR="9861" hR="9861" stAng="16200000" swAng="-5400000"/>
                  <a:lnTo>
                    <a:pt x="0" y="108886"/>
                  </a:lnTo>
                  <a:arcTo wR="9861" hR="9861" stAng="10800000" swAng="-5400000"/>
                  <a:lnTo>
                    <a:pt x="11739" y="118747"/>
                  </a:lnTo>
                  <a:arcTo wR="9861" hR="9861" stAng="5400000" swAng="-5400000"/>
                  <a:lnTo>
                    <a:pt x="21600" y="9861"/>
                  </a:lnTo>
                  <a:arcTo wR="9861" hR="9861" stAng="0" swAng="-5400000"/>
                  <a:close/>
                </a:path>
              </a:pathLst>
            </a:custGeom>
            <a:solidFill>
              <a:srgbClr val="cce4de"/>
            </a:solidFill>
            <a:ln w="9360">
              <a:solidFill>
                <a:srgbClr val="cc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21400" y="2008080"/>
              <a:ext cx="4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18880" y="2101680"/>
              <a:ext cx="3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6360" y="21970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17800" y="229068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9600" y="238572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9600" y="25984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82480" y="3597120"/>
              <a:ext cx="59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erformanc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70000" y="3597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25440" y="359712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sk(s)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35320" y="3597120"/>
              <a:ext cx="720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Other Evidence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67280" y="1822320"/>
              <a:ext cx="1649520" cy="1316160"/>
            </a:xfrm>
            <a:prstGeom prst="roundRect">
              <a:avLst>
                <a:gd name="adj" fmla="val 100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03920" y="3516120"/>
              <a:ext cx="1641600" cy="1322640"/>
            </a:xfrm>
            <a:prstGeom prst="roundRect">
              <a:avLst>
                <a:gd name="adj" fmla="val 100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60800" y="3524040"/>
              <a:ext cx="1649520" cy="1322640"/>
            </a:xfrm>
            <a:prstGeom prst="roundRect">
              <a:avLst>
                <a:gd name="adj" fmla="val 100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80880" y="1219320"/>
            <a:ext cx="4266720" cy="1447200"/>
            <a:chOff x="380880" y="1219320"/>
            <a:chExt cx="4266720" cy="1447200"/>
          </a:xfrm>
        </p:grpSpPr>
        <p:sp>
          <p:nvSpPr>
            <p:cNvPr id="168" name=""/>
            <p:cNvSpPr/>
            <p:nvPr/>
          </p:nvSpPr>
          <p:spPr>
            <a:xfrm>
              <a:off x="380880" y="1219320"/>
              <a:ext cx="4100040" cy="14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76000"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Unpack the content       standards and ‘content’,</a:t>
              </a:r>
              <a:r>
                <a:rPr b="1" lang="en-US" sz="32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</a:rPr>
                <a:t>focus on big ide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3225600" y="2252520"/>
              <a:ext cx="1422000" cy="207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52280" y="3276720"/>
            <a:ext cx="5181480" cy="1218600"/>
            <a:chOff x="152280" y="3276720"/>
            <a:chExt cx="5181480" cy="1218600"/>
          </a:xfrm>
        </p:grpSpPr>
        <p:sp>
          <p:nvSpPr>
            <p:cNvPr id="171" name=""/>
            <p:cNvSpPr/>
            <p:nvPr/>
          </p:nvSpPr>
          <p:spPr>
            <a:xfrm>
              <a:off x="152280" y="3276720"/>
              <a:ext cx="4830120" cy="12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76000"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Book Antiqua"/>
                </a:rPr>
                <a:t>Analyze multiple sources of evidence, aligned with Stage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367520" y="3711960"/>
              <a:ext cx="966240" cy="173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6320" y="5105520"/>
            <a:ext cx="5162040" cy="1066680"/>
            <a:chOff x="76320" y="5105520"/>
            <a:chExt cx="5162040" cy="1066680"/>
          </a:xfrm>
        </p:grpSpPr>
        <p:sp>
          <p:nvSpPr>
            <p:cNvPr id="174" name=""/>
            <p:cNvSpPr/>
            <p:nvPr/>
          </p:nvSpPr>
          <p:spPr>
            <a:xfrm>
              <a:off x="76320" y="5105520"/>
              <a:ext cx="44751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69000"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00"/>
                  </a:solidFill>
                  <a:latin typeface="Book Antiqua"/>
                </a:rPr>
                <a:t>Derive the implied learning from Stages 1 &amp;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343040" y="5333760"/>
              <a:ext cx="895320" cy="456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876920" y="1295280"/>
            <a:ext cx="3581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13560" y="2331360"/>
            <a:ext cx="377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What are the big ide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5400" y="403776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What’s the evid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35880" y="5714280"/>
            <a:ext cx="36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How will we get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1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61048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Each element is found behind a menu tab when designing units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74320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28195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4191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35053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28195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53341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53052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4241880"/>
            <a:ext cx="457200" cy="45720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523880"/>
            <a:ext cx="2057400" cy="914400"/>
          </a:xfrm>
          <a:prstGeom prst="roundRect">
            <a:avLst>
              <a:gd name="adj" fmla="val 16667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tage 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523880"/>
            <a:ext cx="2057400" cy="914400"/>
          </a:xfrm>
          <a:prstGeom prst="roundRect">
            <a:avLst>
              <a:gd name="adj" fmla="val 16667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tage 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1523880"/>
            <a:ext cx="2057400" cy="914400"/>
          </a:xfrm>
          <a:prstGeom prst="roundRect">
            <a:avLst>
              <a:gd name="adj" fmla="val 16667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tage 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60760" y="281880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9160" y="351864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9880" y="4114440"/>
            <a:ext cx="174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5301720"/>
            <a:ext cx="225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amp; Sk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7240" y="283284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4160" y="351864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bric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3800" y="423504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274284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209680"/>
            <a:ext cx="8839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500"/>
                            </p:stCondLst>
                            <p:childTnLst>
                              <p:par>
                                <p:cTn id="9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Not necessary to fill in the template “in order”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47200" y="1676160"/>
            <a:ext cx="81392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Book Antiqua"/>
              </a:rPr>
              <a:t>There are many ‘doorways’ into successful design – you can start with...</a:t>
            </a:r>
            <a:endParaRPr b="1" i="1" lang="en-US" sz="3200" spc="-1" strike="noStrike">
              <a:solidFill>
                <a:srgbClr val="a50021"/>
              </a:solidFill>
              <a:latin typeface="Book Antiqua"/>
            </a:endParaRPr>
          </a:p>
          <a:p>
            <a:pPr lvl="1" marL="741600" indent="-2887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ontent standard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erformance goal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key resource or activity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required assessment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big idea, often misunderstood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n important skill or proces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1600" indent="-2887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n existing unit or lesson to edit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204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7467480" y="2362320"/>
          <a:ext cx="1308240" cy="394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67480" y="2362320"/>
                    <a:ext cx="130824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Exchange featrues provide other entry points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You can –</a:t>
            </a:r>
            <a:endParaRPr b="1" i="1" lang="en-US" sz="3600" spc="-1" strike="noStrike">
              <a:solidFill>
                <a:srgbClr val="a50021"/>
              </a:solidFill>
              <a:latin typeface="Book Antiqua"/>
            </a:endParaRPr>
          </a:p>
          <a:p>
            <a:pPr lvl="1" marL="726480" indent="-282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earch for, find, and attach other designers’ essential questions and understandings to your own unit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6480" indent="-282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Use the web links provided to find ideas on relevant sites for each design element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6480" indent="-28296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tudy exemplary units and adapt them to your own needs and interests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1888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4040ff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4040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47560" y="1676520"/>
            <a:ext cx="79869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50021"/>
                </a:solidFill>
                <a:latin typeface="Book Antiqua"/>
              </a:rPr>
              <a:t>It doesn’t matter where you start as long as the final design is coherent (all elements aligned)</a:t>
            </a:r>
            <a:r>
              <a:rPr b="1" i="1" lang="en-US" sz="3200" spc="-1" strike="noStrike">
                <a:solidFill>
                  <a:srgbClr val="a50021"/>
                </a:solidFill>
                <a:latin typeface="Book Antiqua"/>
              </a:rPr>
              <a:t> </a:t>
            </a:r>
            <a:endParaRPr b="1" i="1" lang="en-US" sz="3200" spc="-1" strike="noStrike">
              <a:solidFill>
                <a:srgbClr val="a50021"/>
              </a:solidFill>
              <a:latin typeface="Book Antiqua"/>
            </a:endParaRPr>
          </a:p>
          <a:p>
            <a:pPr lvl="1" marL="673920" indent="-2624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larifying one element or Stage often forces changes to anothe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lement or Stag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3920" indent="-2624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he template “blueprint” is logical but the process is non-linear (think: home improvement!)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215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4T15:13:42Z</dcterms:created>
  <dc:creator>Grant Wiggins</dc:creator>
  <dc:description/>
  <dc:language>en-US</dc:language>
  <cp:lastModifiedBy>Jeanette Gordon</cp:lastModifiedBy>
  <cp:lastPrinted>2002-03-11T16:47:29Z</cp:lastPrinted>
  <dcterms:modified xsi:type="dcterms:W3CDTF">2005-08-22T20:26:11Z</dcterms:modified>
  <cp:revision>568</cp:revision>
  <dc:subject/>
  <dc:title>Understanding by Design:</dc:title>
</cp:coreProperties>
</file>